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70BB-0718-4D76-BDB5-8B3BCE97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0135-D8EF-4127-ABF1-BA090460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34F1-98D2-4F79-BD2F-B07758E4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6295-8BF4-4A6A-8458-CF1FFDD4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62B8-80A2-409C-B897-DEBD382E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7FB8-6C1E-4B53-B83B-5C41CE79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9343-0F9A-42A1-997B-1289E280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96D7-AE12-4635-B63B-B21AF68D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0409-9AE3-4EFB-AAEC-62D2AA7A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0083-4270-44D0-BC57-2198F071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68AB-BB56-4CCD-B6FD-9C46FC58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663C-292B-4543-A447-39813DCF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fd2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fd29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5912-B1B2-4A62-9F66-204B57E694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reating a Problem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Writers of historical fiction create a plot that is realistic to the time period.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The characters face problems that are real to the time period. 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hink about…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“A Second Beginning”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What problems did the character face?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How were those problems realistic to the time period?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oday, in your Writer’s Notebook, think about the problem your character will face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Write a few paragraphs describing the problem and how it is true to the time period.</a:t>
            </a:r>
            <a:br>
              <a:rPr sz="3600"/>
            </a:b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Be prepared to share at the end of the workshop.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23:34:10Z</dcterms:created>
  <dc:creator>AAPS</dc:creator>
  <dc:description/>
  <dc:language>en-US</dc:language>
  <cp:lastModifiedBy>Carrie Dworkin</cp:lastModifiedBy>
  <dcterms:modified xsi:type="dcterms:W3CDTF">2005-08-16T21:26:58Z</dcterms:modified>
  <cp:revision>5</cp:revision>
  <dc:subject/>
  <dc:title>Creating a Problem</dc:title>
</cp:coreProperties>
</file>